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12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7F01-770A-457E-8C15-65C4B1E1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8D8-B277-4AD2-B861-F1AE984E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62F9-6A78-4F8C-81F0-6D04A2FC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3CFE-60AC-447D-A915-A024D04C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D633-6E87-4F32-8E78-50AE32A6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6968-D73F-4B90-AEF4-8B3D5D08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54AD-07B1-467F-9D2F-2B1E1088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5E1D-C488-4382-9DAB-0971F163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3C40-F288-408B-9C0C-B3A88899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ACD9-5FEC-4729-A576-CB25987D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A410-C27A-4B95-B8F0-239C3BAE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B84-240B-4B97-AF0B-2F6230B5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8F89-FD91-451A-BC62-E2B69659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FB6A-9FCF-453C-AA0A-0CBC4F39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572F-C9DA-4881-B2DD-FDA0A221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16F5-F398-4CA5-AADD-2C652F5B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E33F-3B65-47E3-BFF0-84DAE127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1FDD-3D7F-4AE2-967C-3B559AEC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857-FF45-443E-8EB1-EA142798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8E67-B27E-4081-B8A5-9D66F7A0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F738-D056-4D88-AD40-30070E24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DB67-59B9-47B4-8516-191F4A43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9D00-BDA3-405F-BA04-198950A0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292D-6675-42B5-B1F4-97E909A9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D859-6F0F-414D-A4F3-CA1447F5A7A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4A57-9D08-4A78-A58C-E2D4057B843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gazeta.aif.ru/online/aif/1383/07_01" TargetMode="External"/><Relationship Id="rId2" Type="http://schemas.openxmlformats.org/officeDocument/2006/relationships/hyperlink" Target="http://9may.ru/war_press/m5596" TargetMode="External"/><Relationship Id="rId3" Type="http://schemas.openxmlformats.org/officeDocument/2006/relationships/hyperlink" Target="http://www.fontanka.ru/2005/01/27/114372/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Бессмертный подвиг блокадного Ленинграда… И хотя об этом написаны горы книг, память людей неизменно возвращается к пылающим огнем и болью страницам великой эпопеи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льга Берггольц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384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траничка из дневника Тани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3" name="Picture 4" descr="dnevnik13"/>
          <p:cNvPicPr/>
          <p:nvPr/>
        </p:nvPicPr>
        <p:blipFill>
          <a:blip r:embed="rId1"/>
          <a:stretch/>
        </p:blipFill>
        <p:spPr>
          <a:xfrm>
            <a:off x="3203640" y="1268280"/>
            <a:ext cx="313992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35880" cy="603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 о р м а   в ы д а ч и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х л е б а</a:t>
            </a:r>
            <a:br>
              <a:rPr sz="4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с 20 ноября 1941 г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Рабочим и ИТР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Служащим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Иждивенцам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Детям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       250 гр.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     125 гр.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     125 гр.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125 гр.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528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Ольга Федоровна Берггольц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rcRect l="0" t="0" r="5286" b="2964"/>
          <a:stretch/>
        </p:blipFill>
        <p:spPr>
          <a:xfrm>
            <a:off x="2768760" y="1700280"/>
            <a:ext cx="3315960" cy="4681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991280" cy="63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Ленинградская поэма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	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VI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…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Да, мы не скроем: в эти дни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ы ели землю, клей, ремни;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о, съев похлебку из ремней,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ставал к станку упрямый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астер,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чтобы точить орудий части,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еобходимые войне…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1800" y="284040"/>
            <a:ext cx="7556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ане Савичевой 11 лет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Picture 4" descr="ts_sm"/>
          <p:cNvPicPr/>
          <p:nvPr/>
        </p:nvPicPr>
        <p:blipFill>
          <a:blip r:embed="rId1"/>
          <a:stretch/>
        </p:blipFill>
        <p:spPr>
          <a:xfrm>
            <a:off x="2987640" y="1268280"/>
            <a:ext cx="3592440" cy="4680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2700360" y="5950080"/>
            <a:ext cx="3600360" cy="718920"/>
          </a:xfrm>
          <a:prstGeom prst="rect">
            <a:avLst/>
          </a:prstGeom>
          <a:solidFill>
            <a:srgbClr val="720000"/>
          </a:solidFill>
          <a:ln w="936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Фотография 1941 г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284040"/>
            <a:ext cx="770112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десь похоронена Савичева Тан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Picture 4" descr="могила Тани Савичевой"/>
          <p:cNvPicPr/>
          <p:nvPr/>
        </p:nvPicPr>
        <p:blipFill>
          <a:blip r:embed="rId1"/>
          <a:stretch/>
        </p:blipFill>
        <p:spPr>
          <a:xfrm>
            <a:off x="1403280" y="1484280"/>
            <a:ext cx="6767640" cy="4776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искарёвское мемориальное кладбищ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121440" cy="458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искарёвское мемориальное кладбище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480360" cy="486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	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а берегу Невы,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 музейном зданье,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Хранится очень скромный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дневничок.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Его писала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авичева Таня.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Он каждого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ришедшего влечет…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ергей Смирнов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лья Миксо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9800" spc="-1" strike="noStrike">
                <a:solidFill>
                  <a:srgbClr val="ffffff"/>
                </a:solidFill>
                <a:latin typeface="Tahoma"/>
              </a:rPr>
              <a:t>Жила,</a:t>
            </a:r>
            <a:endParaRPr b="0" lang="en-US" sz="9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9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9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9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9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9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9800" spc="-1" strike="noStrike">
                <a:solidFill>
                  <a:srgbClr val="ffffff"/>
                </a:solidFill>
                <a:latin typeface="Tahoma"/>
              </a:rPr>
              <a:t>была</a:t>
            </a:r>
            <a:endParaRPr b="0" lang="en-US" sz="9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рическое повеств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0760" y="285840"/>
            <a:ext cx="755964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Мемориальная доска на доме,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где жила Савичева Тан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4" descr="ffd01981743410a3865a944bc5ccd629_full"/>
          <p:cNvPicPr/>
          <p:nvPr/>
        </p:nvPicPr>
        <p:blipFill>
          <a:blip r:embed="rId1"/>
          <a:stretch/>
        </p:blipFill>
        <p:spPr>
          <a:xfrm>
            <a:off x="1619280" y="1916280"/>
            <a:ext cx="5911920" cy="4433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36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СРЕДИ орбит Земли и Юпитера есть малая планета № 2127</a:t>
            </a:r>
            <a:br>
              <a:rPr sz="3200"/>
            </a:b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под именем TANYA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Picture 5" descr="3001063[1]"/>
          <p:cNvPicPr/>
          <p:nvPr/>
        </p:nvPicPr>
        <p:blipFill>
          <a:blip r:embed="rId1"/>
          <a:stretch/>
        </p:blipFill>
        <p:spPr>
          <a:xfrm>
            <a:off x="1403280" y="1989000"/>
            <a:ext cx="6191280" cy="4645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920" y="1413000"/>
            <a:ext cx="741672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ремя удлиняет расстоянья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Между всеми нами и тобой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стань пред миром,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авичева Таня,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о своей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мыслимой судьбой!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ергей Смирнов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спользуемые ресур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лья Миксон  Жила, бы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нинград, «Детская литература» 1991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gazeta.aif.ru/online/aif/1383/07_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9may.ru/war_press/m5596</a:t>
            </a:r>
            <a:br>
              <a:rPr sz="2800"/>
            </a:b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www.fontanka.ru/2005/01/27/114372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аркова Л. Н.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локадная хроника Тани Савиче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ихи Ольги Берггольц и  Сергея Смирн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002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cc"/>
                </a:solidFill>
                <a:uFillTx/>
                <a:latin typeface="Tahoma"/>
              </a:rPr>
              <a:t>Об автор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у выполнила библиотекар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У «Основная общеобразовательная школа п.Рауталахт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трофано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ле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кола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image_0115"/>
          <p:cNvPicPr/>
          <p:nvPr/>
        </p:nvPicPr>
        <p:blipFill>
          <a:blip r:embed="rId1"/>
          <a:stretch/>
        </p:blipFill>
        <p:spPr>
          <a:xfrm>
            <a:off x="395280" y="2744640"/>
            <a:ext cx="4897440" cy="36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4259160" cy="604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631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ahoma"/>
              </a:rPr>
              <a:t>Таня Савиче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427200" cy="5119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1844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Блокадная хроника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Тани Савичевой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Picture 4" descr="Блокадная хроника Тани Савичевой"/>
          <p:cNvPicPr/>
          <p:nvPr/>
        </p:nvPicPr>
        <p:blipFill>
          <a:blip r:embed="rId1"/>
          <a:stretch/>
        </p:blipFill>
        <p:spPr>
          <a:xfrm>
            <a:off x="2411280" y="1700280"/>
            <a:ext cx="460548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ahoma"/>
              </a:rPr>
              <a:t>Таня Савичева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272360" cy="4996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55640" y="765000"/>
            <a:ext cx="7704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28 декабря 1941 год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Таня Савичева сделала первую запись в своем дневнике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       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"Женя умерла 28 декабря в 12.00 час. утра 1941 г."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     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907560"/>
            <a:ext cx="8218440" cy="547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бушка умерла 25 янв. 3 ч. дня 1942 г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 Лека умер 17 марта в 5 час. утра 1942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 Дядя Вася умер 13 апр. 2 ч. ночь 1942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 Дядя Леша 10 мая в 4 ч. дня 1942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 Мама 13 мая в 7.30 утра 1942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 Савичевы умерли. Умерли все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284040"/>
            <a:ext cx="7847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траничка из дневника Тани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Picture 4" descr="dnevnik7"/>
          <p:cNvPicPr/>
          <p:nvPr/>
        </p:nvPicPr>
        <p:blipFill>
          <a:blip r:embed="rId1"/>
          <a:stretch/>
        </p:blipFill>
        <p:spPr>
          <a:xfrm>
            <a:off x="3059280" y="1413000"/>
            <a:ext cx="3338280" cy="5140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9:42:48Z</dcterms:created>
  <dc:creator>USER</dc:creator>
  <dc:description/>
  <dc:language>en-US</dc:language>
  <cp:lastModifiedBy>Первый</cp:lastModifiedBy>
  <dcterms:modified xsi:type="dcterms:W3CDTF">2015-06-12T10:51:43Z</dcterms:modified>
  <cp:revision>44</cp:revision>
  <dc:subject/>
  <dc:title>Таня Савичева </dc:title>
</cp:coreProperties>
</file>